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7BE-CE1C-4444-BB3E-546A4733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136-461F-48F3-9E0B-79DBBE61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6CD-8003-4B3D-9CDD-9E20531B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EB0-AA72-4F3C-A4FD-0F6CADC9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03E0-7C13-4EBB-A1DE-932389B9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632D-EA88-45BA-9943-5E323FA8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23B1-087E-49D6-8583-70EA2119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D3B1-984B-4085-A490-A724A1CD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7CBF-4A2B-417D-A6F1-54B7E3E8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1DD4-911B-485A-8766-D0112C5A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334B-54DD-4FD6-93C9-B29F0094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8CF-8605-438D-8745-272C703E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49F2-D77A-4376-953F-454B9DF1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1B88-7324-45AF-A9B3-1CF26DA5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684F-C64C-4A41-A92C-68C48C13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1468-6874-4F30-8F77-1AE0AF14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A641-0A61-4113-9B4C-A04B1933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924-EC2A-4ADD-8AD7-B111A7A7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52E-B50E-4781-AA69-5A368294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52E-A011-4F9E-B7D3-4D414087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EBB-EADD-49BC-8F0B-C8D52132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7C5-577B-4E99-8E48-9032581B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F2E-C422-45D7-8E63-92985CD2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42F-6454-454E-BB2C-557E2F78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À la découverte des polygon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ffffff"/>
                </a:solidFill>
                <a:latin typeface="Comic Sans MS"/>
              </a:rPr>
              <a:t>Présenté p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Comic Sans MS"/>
              </a:rPr>
              <a:t>Jessica Ge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Comic Sans MS"/>
              </a:rPr>
              <a:t>Fannie Fauc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SC00705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28000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La présent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 pourquoi du proj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s outils et fonctions du program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 fonctionnement du program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s suggestions d’activit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Le pourquoi du proj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’idée derrière le proj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s objectifs didactiques du proj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Les outils et fonctions du programm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s fonctions génér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es glissiè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es bout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ut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219320" y="0"/>
          <a:ext cx="68230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6823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Les outils et fonctions du programme (suite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DE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éplacer les somm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ntrai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D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viser le polygone en triang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ntrai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38280" y="5105520"/>
          <a:ext cx="3581640" cy="16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5105520"/>
                    <a:ext cx="358164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Le fonctionnement du programm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 tracé du polyg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s différents test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lygone régul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roisement des cô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roisement des diagona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agonales extérie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rolongements possib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Suggestions d’activité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éfinitions en lien avec les polyg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lcul d’ai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agonales et axes de symétr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lcul de la somme des mesures des angles intérieurs d’un polyg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vision d’un polyg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OULEZ-VOUS L’ESSAYER?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5:48:28Z</dcterms:created>
  <dc:creator>Fannie Faucher</dc:creator>
  <dc:description/>
  <dc:language>en-US</dc:language>
  <cp:lastModifiedBy>famille Tremblay</cp:lastModifiedBy>
  <dcterms:modified xsi:type="dcterms:W3CDTF">2006-04-11T02:49:52Z</dcterms:modified>
  <cp:revision>6</cp:revision>
  <dc:subject/>
  <dc:title>À la découverte des polygones</dc:title>
</cp:coreProperties>
</file>